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214-1E2A-463A-B294-1C074960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7FB-2082-45CA-BF69-CE83304C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B65-4750-4DF3-8CFE-BAF67AD1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4FA-2324-4582-A051-2F1CA780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CB5-B654-49E2-BEDF-F5C7704D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CED-CE3C-4797-8707-6A8191BC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9B3-343A-459D-974E-19045B95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DFF-2BF4-49DE-8E8A-D72693BE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CD3B-9A55-4D26-97CF-9FD8808F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0A3-D8C2-4E97-8B6A-962B79CA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5AF-78CE-4E50-A1C4-FD5F98B8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96E-702F-412E-AC32-78445514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A3EA-9A7F-4A62-B9AB-EDBE69676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opera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98440" y="597672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.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360" y="1362240"/>
            <a:ext cx="8480520" cy="228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spółczynniki zależności napięcia niezrównoważe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d zmian napięcia zasilania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SVRR - ang.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supply voltage rejection rati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 wartość 1-50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V/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301920" y="4618080"/>
                <a:ext cx="1965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VR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109960" y="3711600"/>
            <a:ext cx="288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112840" y="520488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06480" y="4543560"/>
            <a:ext cx="627120" cy="666720"/>
            <a:chOff x="1806480" y="4543560"/>
            <a:chExt cx="627120" cy="666720"/>
          </a:xfrm>
        </p:grpSpPr>
        <p:sp>
          <p:nvSpPr>
            <p:cNvPr id="199" name=""/>
            <p:cNvSpPr/>
            <p:nvPr/>
          </p:nvSpPr>
          <p:spPr>
            <a:xfrm>
              <a:off x="1806480" y="45435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9600" y="46641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67040" y="562284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566040" y="3962520"/>
            <a:ext cx="0" cy="31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12840" y="3711600"/>
            <a:ext cx="159552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2320" y="4584600"/>
            <a:ext cx="699840" cy="5796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0280" y="4421160"/>
            <a:ext cx="627120" cy="666720"/>
            <a:chOff x="5840280" y="4421160"/>
            <a:chExt cx="627120" cy="666720"/>
          </a:xfrm>
        </p:grpSpPr>
        <p:sp>
          <p:nvSpPr>
            <p:cNvPr id="222" name=""/>
            <p:cNvSpPr/>
            <p:nvPr/>
          </p:nvSpPr>
          <p:spPr>
            <a:xfrm>
              <a:off x="5840280" y="442116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43400" y="454176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25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146480" y="2817720"/>
            <a:ext cx="2000160" cy="80028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46640" y="3760920"/>
            <a:ext cx="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6200" y="4189320"/>
            <a:ext cx="2000160" cy="1685880"/>
          </a:xfrm>
          <a:custGeom>
            <a:avLst/>
            <a:gdLst/>
            <a:ahLst/>
            <a:rect l="l" t="t" r="r" b="b"/>
            <a:pathLst>
              <a:path w="1260" h="1062">
                <a:moveTo>
                  <a:pt x="0" y="0"/>
                </a:moveTo>
                <a:lnTo>
                  <a:pt x="0" y="1062"/>
                </a:lnTo>
                <a:lnTo>
                  <a:pt x="1260" y="1062"/>
                </a:lnTo>
                <a:lnTo>
                  <a:pt x="1260" y="5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56360" y="413244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9120" y="4094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98880" y="4170240"/>
            <a:ext cx="0" cy="14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67120" y="56134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50640" y="461160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94200" y="4479480"/>
            <a:ext cx="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8720" y="311616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59720" y="478296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092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49040" y="5938920"/>
            <a:ext cx="297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owo: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5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4120" y="1530360"/>
            <a:ext cx="4862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symetryczne (dwubateryj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il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166760" y="3676680"/>
            <a:ext cx="3240" cy="836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170000" y="516996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63640" y="4508640"/>
            <a:ext cx="627120" cy="666720"/>
            <a:chOff x="863640" y="4508640"/>
            <a:chExt cx="627120" cy="666720"/>
          </a:xfrm>
        </p:grpSpPr>
        <p:sp>
          <p:nvSpPr>
            <p:cNvPr id="247" name=""/>
            <p:cNvSpPr/>
            <p:nvPr/>
          </p:nvSpPr>
          <p:spPr>
            <a:xfrm>
              <a:off x="863640" y="4508640"/>
              <a:ext cx="62712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66760" y="462924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023840" y="558792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06800" y="56228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0440" y="3400560"/>
            <a:ext cx="0" cy="10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13040" y="3386160"/>
            <a:ext cx="98280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55960" y="364824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78200" y="3716280"/>
            <a:ext cx="1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3920" y="3708360"/>
            <a:ext cx="258444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90960" y="4172040"/>
            <a:ext cx="617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41920" y="3895560"/>
            <a:ext cx="295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90800" y="417204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722760" y="3895560"/>
            <a:ext cx="97632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97520" y="3841920"/>
            <a:ext cx="108000" cy="997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33880" y="3662280"/>
            <a:ext cx="107640" cy="1000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33880" y="4130640"/>
            <a:ext cx="10764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57640" y="5270400"/>
            <a:ext cx="0" cy="362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62680" y="4145040"/>
            <a:ext cx="0" cy="7984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92640" y="4309920"/>
            <a:ext cx="544680" cy="5241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97520" y="5164200"/>
            <a:ext cx="108000" cy="1015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845320" y="3086280"/>
            <a:ext cx="626760" cy="666720"/>
            <a:chOff x="5845320" y="3086280"/>
            <a:chExt cx="626760" cy="666720"/>
          </a:xfrm>
        </p:grpSpPr>
        <p:sp>
          <p:nvSpPr>
            <p:cNvPr id="268" name=""/>
            <p:cNvSpPr/>
            <p:nvPr/>
          </p:nvSpPr>
          <p:spPr>
            <a:xfrm>
              <a:off x="5845320" y="3086280"/>
              <a:ext cx="626760" cy="66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8080" y="3206880"/>
              <a:ext cx="0" cy="42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46480" y="2513160"/>
            <a:ext cx="2000160" cy="1104840"/>
          </a:xfrm>
          <a:custGeom>
            <a:avLst/>
            <a:gdLst/>
            <a:ahLst/>
            <a:rect l="l" t="t" r="r" b="b"/>
            <a:pathLst>
              <a:path w="1260" h="504">
                <a:moveTo>
                  <a:pt x="0" y="504"/>
                </a:moveTo>
                <a:lnTo>
                  <a:pt x="0" y="0"/>
                </a:lnTo>
                <a:lnTo>
                  <a:pt x="1260" y="0"/>
                </a:lnTo>
                <a:lnTo>
                  <a:pt x="1260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46640" y="3760920"/>
            <a:ext cx="0" cy="18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89320" y="480528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016080" y="412884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4040" y="56325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55240" y="304956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70320" y="371304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43160" y="4162320"/>
            <a:ext cx="5050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48440" y="3098880"/>
            <a:ext cx="70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32880" y="437364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160" y="4106880"/>
            <a:ext cx="60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57240" y="1301760"/>
            <a:ext cx="51260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silanie asymetryczne - jednobater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81400" y="4162320"/>
            <a:ext cx="0" cy="14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54320" y="5624640"/>
            <a:ext cx="311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2000" y="56070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8280" y="28306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5040" y="4686480"/>
            <a:ext cx="176040" cy="493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057480" y="3343320"/>
            <a:ext cx="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518148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89320" y="488160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52760" y="4181400"/>
            <a:ext cx="504720" cy="628560"/>
          </a:xfrm>
          <a:custGeom>
            <a:avLst/>
            <a:gdLst/>
            <a:ahLst/>
            <a:rect l="l" t="t" r="r" b="b"/>
            <a:pathLst>
              <a:path w="318" h="396">
                <a:moveTo>
                  <a:pt x="318" y="0"/>
                </a:moveTo>
                <a:lnTo>
                  <a:pt x="0" y="0"/>
                </a:lnTo>
                <a:lnTo>
                  <a:pt x="0" y="3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52760" y="4896000"/>
            <a:ext cx="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89320" y="5603760"/>
            <a:ext cx="311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86280" y="2523960"/>
            <a:ext cx="1076040" cy="314640"/>
          </a:xfrm>
          <a:custGeom>
            <a:avLst/>
            <a:gdLst/>
            <a:ahLst/>
            <a:rect l="l" t="t" r="r" b="b"/>
            <a:pathLst>
              <a:path w="678" h="198">
                <a:moveTo>
                  <a:pt x="678" y="0"/>
                </a:moveTo>
                <a:lnTo>
                  <a:pt x="0" y="0"/>
                </a:lnTo>
                <a:lnTo>
                  <a:pt x="0" y="1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101480" y="248112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4640" y="57974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kład „sztucznej mas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62720" y="45626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28400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39800" y="4232160"/>
            <a:ext cx="723960" cy="1287720"/>
          </a:xfrm>
          <a:custGeom>
            <a:avLst/>
            <a:gdLst/>
            <a:ahLst/>
            <a:rect l="l" t="t" r="r" b="b"/>
            <a:pathLst>
              <a:path w="456" h="811">
                <a:moveTo>
                  <a:pt x="0" y="811"/>
                </a:moveTo>
                <a:cubicBezTo>
                  <a:pt x="20" y="720"/>
                  <a:pt x="47" y="402"/>
                  <a:pt x="123" y="267"/>
                </a:cubicBezTo>
                <a:cubicBezTo>
                  <a:pt x="199" y="132"/>
                  <a:pt x="387" y="56"/>
                  <a:pt x="45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9480" y="5727600"/>
            <a:ext cx="14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 = 0,5U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5000" y="2222640"/>
            <a:ext cx="1305000" cy="3931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33360" y="1101600"/>
          <a:ext cx="819468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101600"/>
                    <a:ext cx="819468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054760" y="4689360"/>
            <a:ext cx="74520" cy="7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7480" y="469440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00840" y="127944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33320" y="6005520"/>
            <a:ext cx="36295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dwustop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51760" y="154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2880" y="3770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11800" y="27748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owa wzmacniaczy operac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12720" y="116208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nie wejści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62080" y="1616040"/>
            <a:ext cx="8057880" cy="3193920"/>
            <a:chOff x="262080" y="1616040"/>
            <a:chExt cx="8057880" cy="3193920"/>
          </a:xfrm>
        </p:grpSpPr>
        <p:graphicFrame>
          <p:nvGraphicFramePr>
            <p:cNvPr id="314" name=""/>
            <p:cNvGraphicFramePr/>
            <p:nvPr/>
          </p:nvGraphicFramePr>
          <p:xfrm>
            <a:off x="262080" y="1616040"/>
            <a:ext cx="5286240" cy="319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080" y="1616040"/>
                      <a:ext cx="5286240" cy="31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6078600" y="1884240"/>
            <a:ext cx="2241360" cy="264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78600" y="1884240"/>
                      <a:ext cx="2241360" cy="264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8" name=""/>
          <p:cNvSpPr/>
          <p:nvPr/>
        </p:nvSpPr>
        <p:spPr>
          <a:xfrm>
            <a:off x="333720" y="5334120"/>
            <a:ext cx="14518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5400" y="5334120"/>
            <a:ext cx="20703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układz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rling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24160" y="5334120"/>
            <a:ext cx="207036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pol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76840" y="5334120"/>
            <a:ext cx="21466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óżnicow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 super-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esymetryzacja stopnia we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747800" y="1166760"/>
          <a:ext cx="551808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166760"/>
                    <a:ext cx="551808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operacyjny C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738360" y="1417680"/>
          <a:ext cx="79768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1417680"/>
                    <a:ext cx="79768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6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0440" y="204156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jedno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0480" y="43466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bliżenie dwubiegun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57760" y="1852560"/>
                <a:ext cx="17827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53000" y="4259160"/>
                <a:ext cx="27018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o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668160" y="1247760"/>
          <a:ext cx="822168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247760"/>
                    <a:ext cx="822168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łaściwości dynamiczn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76400" y="628560"/>
          <a:ext cx="65959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28560"/>
                    <a:ext cx="65959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1721160" y="5886360"/>
            <a:ext cx="63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ystyka częstotliwościowa typowego 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1747800"/>
          <a:ext cx="823608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47800"/>
                    <a:ext cx="823608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141560" y="126360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2040" y="1255680"/>
            <a:ext cx="49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roszczone charakterystyki przejsciowe 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9040" y="1384200"/>
            <a:ext cx="305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 KOMPENS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pewnienie stabilnej p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ie wzbudzanie si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po zamknięciu pęt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ujemnego sprzęż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zwrot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240" y="5535720"/>
            <a:ext cx="8919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wnętrzny= wzmacniacz wewnętrznie skompensowany (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7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ewnętrzny= kompensacja zewnętrzna - lepsza, szersze pasmo itp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230280" y="1344600"/>
            <a:ext cx="4902120" cy="3929040"/>
            <a:chOff x="3230280" y="1344600"/>
            <a:chExt cx="4902120" cy="3929040"/>
          </a:xfrm>
        </p:grpSpPr>
        <p:sp>
          <p:nvSpPr>
            <p:cNvPr id="344" name=""/>
            <p:cNvSpPr/>
            <p:nvPr/>
          </p:nvSpPr>
          <p:spPr>
            <a:xfrm>
              <a:off x="5105520" y="3120120"/>
              <a:ext cx="909360" cy="105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947120" y="2766240"/>
              <a:ext cx="503280" cy="280800"/>
              <a:chOff x="4947120" y="2766240"/>
              <a:chExt cx="503280" cy="280800"/>
            </a:xfrm>
          </p:grpSpPr>
          <p:sp>
            <p:nvSpPr>
              <p:cNvPr id="346" name=""/>
              <p:cNvSpPr/>
              <p:nvPr/>
            </p:nvSpPr>
            <p:spPr>
              <a:xfrm>
                <a:off x="4947120" y="2906280"/>
                <a:ext cx="45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856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50400" y="2766240"/>
                <a:ext cx="0" cy="28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450760" y="2905200"/>
              <a:ext cx="828360" cy="810000"/>
            </a:xfrm>
            <a:custGeom>
              <a:avLst/>
              <a:gdLst/>
              <a:ahLst/>
              <a:rect l="l" t="t" r="r" b="b"/>
              <a:pathLst>
                <a:path w="768" h="720">
                  <a:moveTo>
                    <a:pt x="0" y="0"/>
                  </a:moveTo>
                  <a:lnTo>
                    <a:pt x="768" y="0"/>
                  </a:lnTo>
                  <a:lnTo>
                    <a:pt x="768" y="720"/>
                  </a:lnTo>
                  <a:lnTo>
                    <a:pt x="528" y="7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40400" y="2908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00560" y="3645360"/>
              <a:ext cx="12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59680" y="35254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u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3869640" y="3080520"/>
              <a:ext cx="909360" cy="1053000"/>
              <a:chOff x="3869640" y="3080520"/>
              <a:chExt cx="909360" cy="1053000"/>
            </a:xfrm>
          </p:grpSpPr>
          <p:sp>
            <p:nvSpPr>
              <p:cNvPr id="354" name=""/>
              <p:cNvSpPr/>
              <p:nvPr/>
            </p:nvSpPr>
            <p:spPr>
              <a:xfrm>
                <a:off x="3869640" y="3080520"/>
                <a:ext cx="909360" cy="105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76" y="3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34440" y="336096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34440" y="3712320"/>
                <a:ext cx="12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3999240" y="3641400"/>
                <a:ext cx="0" cy="14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783320" y="36424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87720" y="361152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30280" y="3373200"/>
              <a:ext cx="62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241440" y="3794400"/>
              <a:ext cx="62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87280" y="3324960"/>
              <a:ext cx="629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u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43160" y="291672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1280" y="1344600"/>
              <a:ext cx="3676680" cy="392904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0"/>
                  </a:moveTo>
                  <a:lnTo>
                    <a:pt x="0" y="720"/>
                  </a:lnTo>
                  <a:lnTo>
                    <a:pt x="576" y="3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82000" y="3453840"/>
              <a:ext cx="185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50680" y="3395160"/>
              <a:ext cx="6480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279440" y="2046240"/>
          <a:ext cx="6850080" cy="38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046240"/>
                    <a:ext cx="685008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ensacja częstotliwościowa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33360" y="1479600"/>
          <a:ext cx="881064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79600"/>
                    <a:ext cx="881064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y model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371600" y="1676520"/>
          <a:ext cx="685152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8515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33360" y="2093760"/>
          <a:ext cx="8466120" cy="30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093760"/>
                    <a:ext cx="846612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1928520" y="1362240"/>
            <a:ext cx="5488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Maksymalne napięcie międzyszczyt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99200" y="5711760"/>
            <a:ext cx="6433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Maksymalny prąd wyjściowy typowo n*10[m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932200" y="1601640"/>
          <a:ext cx="59166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1601640"/>
                    <a:ext cx="59166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33360" y="2052720"/>
                <a:ext cx="27338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89820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40640" y="3794040"/>
            <a:ext cx="395280" cy="2509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47200" y="38210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63120" y="3900600"/>
            <a:ext cx="115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92880" y="4232160"/>
            <a:ext cx="254160" cy="56844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24640" y="3586320"/>
            <a:ext cx="862200" cy="5331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477200" y="3622680"/>
            <a:ext cx="734760" cy="461520"/>
            <a:chOff x="7477200" y="3622680"/>
            <a:chExt cx="734760" cy="461520"/>
          </a:xfrm>
        </p:grpSpPr>
        <p:sp>
          <p:nvSpPr>
            <p:cNvPr id="393" name=""/>
            <p:cNvSpPr/>
            <p:nvPr/>
          </p:nvSpPr>
          <p:spPr>
            <a:xfrm>
              <a:off x="7477200" y="3838680"/>
              <a:ext cx="269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920" y="3838680"/>
              <a:ext cx="284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88360" y="362268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2360" y="386244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3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81200" y="36226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02080" y="386244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50320" y="370692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107920" y="39466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8800" y="370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21360" y="3718080"/>
              <a:ext cx="13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24360" y="275256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88440" y="27846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75560" y="27637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9280" y="2795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75560" y="3989520"/>
            <a:ext cx="18720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9280" y="4017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3200" y="3978360"/>
            <a:ext cx="18720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75480" y="4005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49840" y="2752560"/>
            <a:ext cx="82440" cy="846360"/>
            <a:chOff x="3849840" y="2752560"/>
            <a:chExt cx="82440" cy="846360"/>
          </a:xfrm>
        </p:grpSpPr>
        <p:sp>
          <p:nvSpPr>
            <p:cNvPr id="412" name=""/>
            <p:cNvSpPr/>
            <p:nvPr/>
          </p:nvSpPr>
          <p:spPr>
            <a:xfrm>
              <a:off x="3889440" y="282744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49840" y="27525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70360" y="3556080"/>
            <a:ext cx="1855800" cy="81000"/>
            <a:chOff x="3870360" y="3556080"/>
            <a:chExt cx="1855800" cy="81000"/>
          </a:xfrm>
        </p:grpSpPr>
        <p:sp>
          <p:nvSpPr>
            <p:cNvPr id="415" name=""/>
            <p:cNvSpPr/>
            <p:nvPr/>
          </p:nvSpPr>
          <p:spPr>
            <a:xfrm flipH="1" flipV="1">
              <a:off x="3870360" y="3590640"/>
              <a:ext cx="1781280" cy="3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43720" y="355608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51"/>
                  </a:moveTo>
                  <a:lnTo>
                    <a:pt x="52" y="24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849840" y="3967200"/>
            <a:ext cx="82440" cy="844560"/>
            <a:chOff x="3849840" y="3967200"/>
            <a:chExt cx="82440" cy="844560"/>
          </a:xfrm>
        </p:grpSpPr>
        <p:sp>
          <p:nvSpPr>
            <p:cNvPr id="418" name=""/>
            <p:cNvSpPr/>
            <p:nvPr/>
          </p:nvSpPr>
          <p:spPr>
            <a:xfrm>
              <a:off x="3889440" y="40402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49840" y="39672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870360" y="4765680"/>
            <a:ext cx="1855800" cy="82440"/>
            <a:chOff x="3870360" y="4765680"/>
            <a:chExt cx="1855800" cy="82440"/>
          </a:xfrm>
        </p:grpSpPr>
        <p:sp>
          <p:nvSpPr>
            <p:cNvPr id="421" name=""/>
            <p:cNvSpPr/>
            <p:nvPr/>
          </p:nvSpPr>
          <p:spPr>
            <a:xfrm flipH="1">
              <a:off x="3870360" y="4805280"/>
              <a:ext cx="1781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43720" y="47656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700680" y="2768760"/>
            <a:ext cx="82800" cy="841320"/>
            <a:chOff x="6700680" y="2768760"/>
            <a:chExt cx="82800" cy="841320"/>
          </a:xfrm>
        </p:grpSpPr>
        <p:sp>
          <p:nvSpPr>
            <p:cNvPr id="424" name=""/>
            <p:cNvSpPr/>
            <p:nvPr/>
          </p:nvSpPr>
          <p:spPr>
            <a:xfrm>
              <a:off x="6740640" y="2843280"/>
              <a:ext cx="1440" cy="76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2768760"/>
              <a:ext cx="82800" cy="8064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51"/>
                  </a:moveTo>
                  <a:lnTo>
                    <a:pt x="25" y="0"/>
                  </a:lnTo>
                  <a:lnTo>
                    <a:pt x="0" y="51"/>
                  </a:lnTo>
                  <a:lnTo>
                    <a:pt x="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19400" y="3559320"/>
            <a:ext cx="1853280" cy="82440"/>
            <a:chOff x="6719400" y="3559320"/>
            <a:chExt cx="1853280" cy="82440"/>
          </a:xfrm>
        </p:grpSpPr>
        <p:sp>
          <p:nvSpPr>
            <p:cNvPr id="427" name=""/>
            <p:cNvSpPr/>
            <p:nvPr/>
          </p:nvSpPr>
          <p:spPr>
            <a:xfrm flipH="1">
              <a:off x="6719400" y="3598920"/>
              <a:ext cx="177804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89880" y="355932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00680" y="3978360"/>
            <a:ext cx="82800" cy="846000"/>
            <a:chOff x="6700680" y="3978360"/>
            <a:chExt cx="82800" cy="846000"/>
          </a:xfrm>
        </p:grpSpPr>
        <p:sp>
          <p:nvSpPr>
            <p:cNvPr id="430" name=""/>
            <p:cNvSpPr/>
            <p:nvPr/>
          </p:nvSpPr>
          <p:spPr>
            <a:xfrm>
              <a:off x="6740640" y="4052880"/>
              <a:ext cx="1440" cy="771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00680" y="397836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52"/>
                  </a:moveTo>
                  <a:lnTo>
                    <a:pt x="25" y="0"/>
                  </a:lnTo>
                  <a:lnTo>
                    <a:pt x="0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719760" y="4776840"/>
            <a:ext cx="1857600" cy="82440"/>
            <a:chOff x="6719760" y="4776840"/>
            <a:chExt cx="1857600" cy="82440"/>
          </a:xfrm>
        </p:grpSpPr>
        <p:sp>
          <p:nvSpPr>
            <p:cNvPr id="433" name=""/>
            <p:cNvSpPr/>
            <p:nvPr/>
          </p:nvSpPr>
          <p:spPr>
            <a:xfrm flipH="1">
              <a:off x="6719760" y="4816440"/>
              <a:ext cx="1782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94560" y="4776840"/>
              <a:ext cx="8280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0" y="52"/>
                  </a:moveTo>
                  <a:lnTo>
                    <a:pt x="52" y="25"/>
                  </a:lnTo>
                  <a:lnTo>
                    <a:pt x="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889440" y="3586320"/>
            <a:ext cx="2458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9440" y="4797360"/>
            <a:ext cx="245880" cy="180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51800" y="4808520"/>
            <a:ext cx="247320" cy="32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32440" y="2862000"/>
            <a:ext cx="2880" cy="7239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999120" y="2878200"/>
            <a:ext cx="1800" cy="72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51800" y="3598920"/>
            <a:ext cx="2473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240" y="2862360"/>
            <a:ext cx="146052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0280" y="2878200"/>
            <a:ext cx="1457280" cy="14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127400" y="4071960"/>
            <a:ext cx="12960" cy="728640"/>
            <a:chOff x="4127400" y="4071960"/>
            <a:chExt cx="12960" cy="728640"/>
          </a:xfrm>
        </p:grpSpPr>
        <p:sp>
          <p:nvSpPr>
            <p:cNvPr id="444" name=""/>
            <p:cNvSpPr/>
            <p:nvPr/>
          </p:nvSpPr>
          <p:spPr>
            <a:xfrm>
              <a:off x="412740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740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740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2740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2740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2740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2740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2740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2740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2740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740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2740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740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2740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2740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2740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2740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2740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2740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2740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2740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12740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740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27400" y="443232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3"/>
                  </a:move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32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32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2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32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32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32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32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32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32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32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2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32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32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2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2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32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2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2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32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32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32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32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2440" y="4071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994440" y="4087800"/>
            <a:ext cx="7920" cy="728640"/>
            <a:chOff x="6994440" y="4087800"/>
            <a:chExt cx="7920" cy="728640"/>
          </a:xfrm>
        </p:grpSpPr>
        <p:sp>
          <p:nvSpPr>
            <p:cNvPr id="492" name=""/>
            <p:cNvSpPr/>
            <p:nvPr/>
          </p:nvSpPr>
          <p:spPr>
            <a:xfrm>
              <a:off x="6994440" y="48085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4440" y="4792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4440" y="4776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4440" y="4761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4440" y="47466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4440" y="4730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4440" y="4714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4440" y="4699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4440" y="4683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4440" y="4667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4440" y="465120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4440" y="4635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94440" y="4621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4440" y="4605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94440" y="4589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94440" y="4573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94440" y="45576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94440" y="454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94440" y="452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94440" y="4511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94440" y="4495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94440" y="44798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4440" y="44640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94440" y="4448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94440" y="4432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94440" y="4416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94440" y="4400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94440" y="4386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94440" y="437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94440" y="435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94440" y="4338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94440" y="4322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94440" y="4307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94440" y="42908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94440" y="427680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94440" y="4260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94440" y="42451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94440" y="42292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94440" y="42130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94440" y="41972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94440" y="4181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94440" y="416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94440" y="41511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94440" y="41353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94440" y="4119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944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44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135320" y="4087800"/>
            <a:ext cx="728640" cy="11160"/>
            <a:chOff x="4135320" y="4087800"/>
            <a:chExt cx="728640" cy="11160"/>
          </a:xfrm>
        </p:grpSpPr>
        <p:sp>
          <p:nvSpPr>
            <p:cNvPr id="540" name=""/>
            <p:cNvSpPr/>
            <p:nvPr/>
          </p:nvSpPr>
          <p:spPr>
            <a:xfrm>
              <a:off x="4135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11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673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832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990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148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292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451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609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768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926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084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243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0160" y="40878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545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704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862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020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1792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3376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49600" y="408780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6400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7984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95680" y="40878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115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277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435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594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5240" y="409248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896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054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213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371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530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688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846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990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149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307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466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624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7828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9412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09960" y="40924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2436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020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6040" y="409248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010280" y="4095720"/>
            <a:ext cx="493920" cy="15840"/>
            <a:chOff x="7010280" y="4095720"/>
            <a:chExt cx="493920" cy="15840"/>
          </a:xfrm>
        </p:grpSpPr>
        <p:sp>
          <p:nvSpPr>
            <p:cNvPr id="588" name=""/>
            <p:cNvSpPr/>
            <p:nvPr/>
          </p:nvSpPr>
          <p:spPr>
            <a:xfrm>
              <a:off x="70102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261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4232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58160" y="41036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7220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880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0424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20080" y="41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1359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517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676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1820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1978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136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295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453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612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770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92880" y="40989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0728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2312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3896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5480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70640" y="4098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864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026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672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3256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484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6460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8044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6280" y="4095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 flipV="1">
            <a:off x="7010280" y="4248000"/>
            <a:ext cx="243000" cy="563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586640" y="4098960"/>
            <a:ext cx="79380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19600" y="4087800"/>
            <a:ext cx="798480" cy="14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7240680" y="3927600"/>
            <a:ext cx="162000" cy="320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71920" y="3954600"/>
            <a:ext cx="274680" cy="2347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71640" y="3981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47960" y="40608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71920" y="273996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2560" y="27687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99720" y="28465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670200" y="3438360"/>
            <a:ext cx="18756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54080" y="346860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70200" y="4687920"/>
            <a:ext cx="18756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754080" y="47149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41840" y="3645000"/>
            <a:ext cx="18756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42640" y="3676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29240" y="48481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29680" y="4875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10160" y="3989520"/>
            <a:ext cx="274680" cy="2397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509880" y="4017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86200" y="40957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10160" y="2779560"/>
            <a:ext cx="27468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90800" y="2806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39760" y="2886120"/>
            <a:ext cx="8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08800" y="347652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92320" y="35035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08800" y="4722840"/>
            <a:ext cx="189000" cy="2379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92320" y="4753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80440" y="3684600"/>
            <a:ext cx="189000" cy="23508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80880" y="3711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69280" y="4883040"/>
            <a:ext cx="187200" cy="238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469720" y="4910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18120" y="2336760"/>
            <a:ext cx="1927080" cy="3492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403360"/>
            <a:ext cx="139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ałe sygnały [m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32560" y="2313000"/>
            <a:ext cx="2023920" cy="36036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965280" y="2344680"/>
            <a:ext cx="1899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uże sygnały [V]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29520" y="4210200"/>
            <a:ext cx="55440" cy="5400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34440" y="4282920"/>
            <a:ext cx="912600" cy="45900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249200" y="3154320"/>
            <a:ext cx="180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260360" y="3619080"/>
            <a:ext cx="71928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363680" y="3725640"/>
            <a:ext cx="144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08240" y="378468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39680" y="3784680"/>
            <a:ext cx="2160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338760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14560" y="3627360"/>
            <a:ext cx="216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316160" y="3389400"/>
            <a:ext cx="115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1265040" y="3178080"/>
            <a:ext cx="71892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32000" y="3592440"/>
            <a:ext cx="77760" cy="874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1020240" y="4494240"/>
            <a:ext cx="1535400" cy="4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33560" y="4513320"/>
            <a:ext cx="0" cy="27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84240" y="3343320"/>
            <a:ext cx="77760" cy="8712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3749760"/>
            <a:ext cx="77760" cy="856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68360" y="3770280"/>
            <a:ext cx="1800" cy="600120"/>
          </a:xfrm>
          <a:prstGeom prst="line">
            <a:avLst/>
          </a:prstGeom>
          <a:ln w="19080">
            <a:solidFill>
              <a:srgbClr val="ff33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31760" y="3894120"/>
            <a:ext cx="1800" cy="530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5400" y="4446720"/>
            <a:ext cx="76320" cy="856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55800" y="4757760"/>
            <a:ext cx="17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83000" y="3836880"/>
            <a:ext cx="401400" cy="5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5480" y="3894120"/>
            <a:ext cx="40176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9160" y="128412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800" y="2098800"/>
            <a:ext cx="2206440" cy="75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ętla sprzę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05080" y="2487600"/>
            <a:ext cx="976320" cy="1131840"/>
          </a:xfrm>
          <a:custGeom>
            <a:avLst/>
            <a:gdLst/>
            <a:ahLst/>
            <a:rect l="l" t="t" r="r" b="b"/>
            <a:pathLst>
              <a:path w="615" h="713">
                <a:moveTo>
                  <a:pt x="415" y="0"/>
                </a:moveTo>
                <a:lnTo>
                  <a:pt x="615" y="0"/>
                </a:lnTo>
                <a:lnTo>
                  <a:pt x="615" y="711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3720" y="2505240"/>
            <a:ext cx="563760" cy="880920"/>
          </a:xfrm>
          <a:custGeom>
            <a:avLst/>
            <a:gdLst/>
            <a:ahLst/>
            <a:rect l="l" t="t" r="r" b="b"/>
            <a:pathLst>
              <a:path w="355" h="555">
                <a:moveTo>
                  <a:pt x="211" y="0"/>
                </a:moveTo>
                <a:lnTo>
                  <a:pt x="0" y="0"/>
                </a:lnTo>
                <a:lnTo>
                  <a:pt x="0" y="555"/>
                </a:lnTo>
                <a:lnTo>
                  <a:pt x="355" y="55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33880" y="4086360"/>
            <a:ext cx="600120" cy="714240"/>
          </a:xfrm>
          <a:custGeom>
            <a:avLst/>
            <a:gdLst/>
            <a:ahLst/>
            <a:rect l="l" t="t" r="r" b="b"/>
            <a:pathLst>
              <a:path w="378" h="450">
                <a:moveTo>
                  <a:pt x="0" y="450"/>
                </a:moveTo>
                <a:cubicBezTo>
                  <a:pt x="4" y="396"/>
                  <a:pt x="9" y="342"/>
                  <a:pt x="18" y="294"/>
                </a:cubicBezTo>
                <a:cubicBezTo>
                  <a:pt x="27" y="246"/>
                  <a:pt x="36" y="203"/>
                  <a:pt x="54" y="162"/>
                </a:cubicBezTo>
                <a:cubicBezTo>
                  <a:pt x="72" y="121"/>
                  <a:pt x="96" y="73"/>
                  <a:pt x="126" y="48"/>
                </a:cubicBezTo>
                <a:cubicBezTo>
                  <a:pt x="156" y="23"/>
                  <a:pt x="192" y="20"/>
                  <a:pt x="234" y="12"/>
                </a:cubicBezTo>
                <a:cubicBezTo>
                  <a:pt x="276" y="4"/>
                  <a:pt x="327" y="2"/>
                  <a:pt x="378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57960" y="4086360"/>
            <a:ext cx="333360" cy="152280"/>
          </a:xfrm>
          <a:custGeom>
            <a:avLst/>
            <a:gdLst/>
            <a:ahLst/>
            <a:rect l="l" t="t" r="r" b="b"/>
            <a:pathLst>
              <a:path w="210" h="96">
                <a:moveTo>
                  <a:pt x="0" y="96"/>
                </a:moveTo>
                <a:cubicBezTo>
                  <a:pt x="12" y="71"/>
                  <a:pt x="25" y="46"/>
                  <a:pt x="60" y="30"/>
                </a:cubicBezTo>
                <a:cubicBezTo>
                  <a:pt x="95" y="14"/>
                  <a:pt x="152" y="7"/>
                  <a:pt x="21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3440" y="49467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u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2880" y="49658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[m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02560" y="280512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333cc"/>
                </a:solidFill>
                <a:latin typeface="Times New Roman"/>
              </a:rPr>
              <a:t>[m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15320" y="28130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[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8400" y="41767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0,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18440" y="42530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1V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801960" y="1708200"/>
          <a:ext cx="487692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1708200"/>
                    <a:ext cx="48769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2376000" y="966960"/>
            <a:ext cx="39207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 (przykład wtórnika: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003320" y="3476520"/>
            <a:ext cx="2028960" cy="1461960"/>
            <a:chOff x="1003320" y="3476520"/>
            <a:chExt cx="2028960" cy="1461960"/>
          </a:xfrm>
        </p:grpSpPr>
        <p:sp>
          <p:nvSpPr>
            <p:cNvPr id="695" name=""/>
            <p:cNvSpPr/>
            <p:nvPr/>
          </p:nvSpPr>
          <p:spPr>
            <a:xfrm flipV="1">
              <a:off x="1657800" y="3742200"/>
              <a:ext cx="1080" cy="6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667160" y="4083480"/>
              <a:ext cx="678240" cy="33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765440" y="4160880"/>
              <a:ext cx="1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2520" y="42048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60160" y="420480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60160" y="3913920"/>
              <a:ext cx="20340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77800" y="4089960"/>
              <a:ext cx="2030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443600" y="3476520"/>
              <a:ext cx="1080" cy="419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574000" y="3476520"/>
              <a:ext cx="1080" cy="62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19720" y="3915000"/>
              <a:ext cx="108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1671840" y="3759120"/>
              <a:ext cx="67824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38360" y="405684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1431360" y="3476520"/>
              <a:ext cx="11426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440720" y="4725360"/>
              <a:ext cx="14475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52960" y="4739400"/>
              <a:ext cx="1080" cy="19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7600" y="388116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7600" y="4178880"/>
              <a:ext cx="72720" cy="63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82640" y="4215240"/>
              <a:ext cx="1080" cy="44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51880" y="4285800"/>
              <a:ext cx="1080" cy="38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16960" y="4690440"/>
              <a:ext cx="72720" cy="630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79880" y="4919040"/>
              <a:ext cx="162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54280" y="425052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03320" y="4285800"/>
              <a:ext cx="378000" cy="37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pl-P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arametry dynamiczne wielkosygnałow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72560" y="2239920"/>
            <a:ext cx="78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cc"/>
                </a:solidFill>
                <a:latin typeface="Times New Roman"/>
              </a:rPr>
              <a:t>Pasmo małosygnałow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&gt; ? &gt; 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Pasmo wielkosygnał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19160" y="1362240"/>
            <a:ext cx="14104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lew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01640" y="33987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639440" y="3570120"/>
            <a:ext cx="5769360" cy="2606040"/>
            <a:chOff x="1639440" y="3570120"/>
            <a:chExt cx="5769360" cy="2606040"/>
          </a:xfrm>
        </p:grpSpPr>
        <p:grpSp>
          <p:nvGrpSpPr>
            <p:cNvPr id="723" name=""/>
            <p:cNvGrpSpPr/>
            <p:nvPr/>
          </p:nvGrpSpPr>
          <p:grpSpPr>
            <a:xfrm>
              <a:off x="1639440" y="3570120"/>
              <a:ext cx="5769360" cy="2131560"/>
              <a:chOff x="1639440" y="3570120"/>
              <a:chExt cx="5769360" cy="2131560"/>
            </a:xfrm>
          </p:grpSpPr>
          <p:sp>
            <p:nvSpPr>
              <p:cNvPr id="724" name=""/>
              <p:cNvSpPr/>
              <p:nvPr/>
            </p:nvSpPr>
            <p:spPr>
              <a:xfrm>
                <a:off x="2646000" y="5546520"/>
                <a:ext cx="423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2682720" y="3570120"/>
                <a:ext cx="0" cy="19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82720" y="4103640"/>
                <a:ext cx="3686040" cy="1449360"/>
              </a:xfrm>
              <a:custGeom>
                <a:avLst/>
                <a:gdLst/>
                <a:ahLst/>
                <a:rect l="l" t="t" r="r" b="b"/>
                <a:pathLst>
                  <a:path w="2322" h="913">
                    <a:moveTo>
                      <a:pt x="0" y="9"/>
                    </a:moveTo>
                    <a:cubicBezTo>
                      <a:pt x="266" y="4"/>
                      <a:pt x="532" y="0"/>
                      <a:pt x="778" y="20"/>
                    </a:cubicBezTo>
                    <a:cubicBezTo>
                      <a:pt x="1024" y="40"/>
                      <a:pt x="1315" y="68"/>
                      <a:pt x="1478" y="131"/>
                    </a:cubicBezTo>
                    <a:cubicBezTo>
                      <a:pt x="1641" y="194"/>
                      <a:pt x="1681" y="313"/>
                      <a:pt x="1755" y="398"/>
                    </a:cubicBezTo>
                    <a:cubicBezTo>
                      <a:pt x="1829" y="483"/>
                      <a:pt x="1872" y="572"/>
                      <a:pt x="1922" y="642"/>
                    </a:cubicBezTo>
                    <a:cubicBezTo>
                      <a:pt x="1972" y="712"/>
                      <a:pt x="2000" y="777"/>
                      <a:pt x="2056" y="820"/>
                    </a:cubicBezTo>
                    <a:cubicBezTo>
                      <a:pt x="2112" y="863"/>
                      <a:pt x="2212" y="883"/>
                      <a:pt x="2256" y="898"/>
                    </a:cubicBezTo>
                    <a:cubicBezTo>
                      <a:pt x="2300" y="913"/>
                      <a:pt x="2307" y="903"/>
                      <a:pt x="2322" y="909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17640" y="4132080"/>
                <a:ext cx="3139920" cy="1416240"/>
              </a:xfrm>
              <a:custGeom>
                <a:avLst/>
                <a:gdLst/>
                <a:ahLst/>
                <a:rect l="l" t="t" r="r" b="b"/>
                <a:pathLst>
                  <a:path w="1978" h="892">
                    <a:moveTo>
                      <a:pt x="0" y="13"/>
                    </a:moveTo>
                    <a:cubicBezTo>
                      <a:pt x="175" y="6"/>
                      <a:pt x="350" y="0"/>
                      <a:pt x="500" y="24"/>
                    </a:cubicBezTo>
                    <a:cubicBezTo>
                      <a:pt x="650" y="48"/>
                      <a:pt x="770" y="71"/>
                      <a:pt x="900" y="158"/>
                    </a:cubicBezTo>
                    <a:cubicBezTo>
                      <a:pt x="1030" y="245"/>
                      <a:pt x="1158" y="433"/>
                      <a:pt x="1278" y="546"/>
                    </a:cubicBezTo>
                    <a:cubicBezTo>
                      <a:pt x="1398" y="659"/>
                      <a:pt x="1505" y="778"/>
                      <a:pt x="1622" y="835"/>
                    </a:cubicBezTo>
                    <a:cubicBezTo>
                      <a:pt x="1739" y="892"/>
                      <a:pt x="1919" y="882"/>
                      <a:pt x="1978" y="891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25840" y="52419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46000" y="4576680"/>
                <a:ext cx="36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39440" y="4290840"/>
                <a:ext cx="108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,7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114280" y="3708360"/>
                <a:ext cx="64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u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376520" y="45766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381280" y="4576680"/>
                <a:ext cx="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4092480" y="5716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33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48000" y="5716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3333cc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O (Boy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333360" y="1693800"/>
          <a:ext cx="854244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693800"/>
                    <a:ext cx="854244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2960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1040" y="1149480"/>
            <a:ext cx="768204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zmocnieni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ud, m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                                                         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ółczynnik tłumienia sygnału sumacyjnego CMRR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rąd wejściow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Wejściowy prąd niezrównoważenia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ejściowe napięcie niezrównoważeni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temp. wejściowego napięcia niezrównown.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sp. zmian wejśc. nap.  niezrówn. od zmian nap.  zasilania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ezystancja we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Rezystancja wyjściow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zerokość pasma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lub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asmo wielkosygnałowe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a prędkość zmian napięcia wyjściowego (S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napięcie wejściowe różnic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D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Maksymalne wspólne napięcie wejściowe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INC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Napięcie zasilania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obór mo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Zakres temperatury pracy 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1" i="1" lang="pl-PL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333360" y="2338560"/>
          <a:ext cx="8474040" cy="26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338560"/>
                    <a:ext cx="8474040" cy="26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605680" y="1362240"/>
            <a:ext cx="34617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919080" y="5119560"/>
                <a:ext cx="2084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4638600"/>
            <a:ext cx="9144000" cy="22194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0040" y="1387440"/>
            <a:ext cx="38354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nieodwracają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333360" y="1959120"/>
          <a:ext cx="854568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959120"/>
                    <a:ext cx="854568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4513320" y="1243080"/>
                <a:ext cx="2276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50" name=""/>
          <p:cNvGrpSpPr/>
          <p:nvPr/>
        </p:nvGrpSpPr>
        <p:grpSpPr>
          <a:xfrm>
            <a:off x="3859200" y="4727520"/>
            <a:ext cx="2668680" cy="1916280"/>
            <a:chOff x="3859200" y="4727520"/>
            <a:chExt cx="2668680" cy="1916280"/>
          </a:xfrm>
        </p:grpSpPr>
        <p:sp>
          <p:nvSpPr>
            <p:cNvPr id="751" name=""/>
            <p:cNvSpPr/>
            <p:nvPr/>
          </p:nvSpPr>
          <p:spPr>
            <a:xfrm flipV="1">
              <a:off x="4636440" y="5099760"/>
              <a:ext cx="1080" cy="8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647240" y="5546880"/>
              <a:ext cx="763920" cy="43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757760" y="5648760"/>
              <a:ext cx="108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98360" y="57056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13960" y="570564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3960" y="5324400"/>
              <a:ext cx="228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47520" y="5554800"/>
              <a:ext cx="51444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404600" y="4727520"/>
              <a:ext cx="1080" cy="60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668560" y="4739400"/>
              <a:ext cx="1080" cy="8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06640" y="53258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652640" y="5120640"/>
              <a:ext cx="763920" cy="43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10840" y="55119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395240" y="4739760"/>
              <a:ext cx="1274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27880" y="5511960"/>
              <a:ext cx="82080" cy="828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4920" y="566244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06040" y="6371640"/>
              <a:ext cx="1080" cy="261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64280" y="628416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04600" y="5811840"/>
              <a:ext cx="1080" cy="393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03800" y="6642360"/>
              <a:ext cx="20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59200" y="576576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41520" y="5327280"/>
              <a:ext cx="486360" cy="4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66000" y="50925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tórnik na W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Stabilność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03440" y="2624040"/>
          <a:ext cx="390204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624040"/>
                    <a:ext cx="39020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018040" y="4395960"/>
                <a:ext cx="26290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5041800" y="3608280"/>
                <a:ext cx="25686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2638800" y="1362240"/>
            <a:ext cx="31219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6386400" y="2205000"/>
            <a:ext cx="2540160" cy="2786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333360" y="2174760"/>
          <a:ext cx="881064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174760"/>
                    <a:ext cx="881064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33360" y="5243400"/>
                <a:ext cx="2954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45160" y="5183280"/>
                <a:ext cx="40701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959200" y="136224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po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6" name=""/>
          <p:cNvGraphicFramePr/>
          <p:nvPr/>
        </p:nvGraphicFramePr>
        <p:xfrm>
          <a:off x="2182680" y="2990880"/>
          <a:ext cx="43038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2990880"/>
                    <a:ext cx="43038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512720" y="2076480"/>
                <a:ext cx="5705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20680" y="1362240"/>
            <a:ext cx="30045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 sum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"/>
          <p:cNvGraphicFramePr/>
          <p:nvPr/>
        </p:nvGraphicFramePr>
        <p:xfrm>
          <a:off x="333360" y="4502160"/>
          <a:ext cx="857736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502160"/>
                    <a:ext cx="857736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19280" y="3222720"/>
                <a:ext cx="262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4614840" y="3317760"/>
                <a:ext cx="2465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806760" y="1704960"/>
            <a:ext cx="74563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kład całkują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różniczkują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2606760" y="3660840"/>
          <a:ext cx="338760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3660840"/>
                    <a:ext cx="338760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3455280" y="2790720"/>
            <a:ext cx="1555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pl-PL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pl-PL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15280" y="4354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870280" y="1704960"/>
            <a:ext cx="3411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prąd-napię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O w układach lin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29280" y="2600280"/>
          <a:ext cx="3531960" cy="37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2600280"/>
                    <a:ext cx="353196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140440" y="1362240"/>
                <a:ext cx="146988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7" name=""/>
          <p:cNvSpPr/>
          <p:nvPr/>
        </p:nvSpPr>
        <p:spPr>
          <a:xfrm>
            <a:off x="331920" y="1582560"/>
            <a:ext cx="360504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twornik napięcie-prą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erowane źródło prąd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wanie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6360" y="1744560"/>
          <a:ext cx="7948440" cy="28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744560"/>
                    <a:ext cx="7948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62360" y="4794120"/>
            <a:ext cx="5208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różnic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- składowa sumacyjna (wspól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344600"/>
            <a:ext cx="1903320" cy="57960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12342"/>
              <a:gd name="adj5" fmla="val 215203"/>
              <a:gd name="adj6" fmla="val -41773"/>
            </a:avLst>
          </a:prstGeom>
          <a:solidFill>
            <a:srgbClr val="99ccff"/>
          </a:solidFill>
          <a:ln w="93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28960" y="2715840"/>
            <a:ext cx="0" cy="282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3360" y="1432080"/>
          <a:ext cx="8432640" cy="48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843264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33360" y="1432080"/>
          <a:ext cx="7780320" cy="49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432080"/>
                    <a:ext cx="77803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" y="2379600"/>
                <a:ext cx="31240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105520" y="243828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30480" y="1449360"/>
            <a:ext cx="32241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różnic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10920" y="1449360"/>
            <a:ext cx="32590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suma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183440" y="3941640"/>
            <a:ext cx="104760" cy="57240"/>
            <a:chOff x="7183440" y="3941640"/>
            <a:chExt cx="104760" cy="57240"/>
          </a:xfrm>
        </p:grpSpPr>
        <p:sp>
          <p:nvSpPr>
            <p:cNvPr id="67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83440" y="39416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25" y="1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0" y="21"/>
                  </a:lnTo>
                  <a:lnTo>
                    <a:pt x="64" y="28"/>
                  </a:lnTo>
                  <a:lnTo>
                    <a:pt x="66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821640" y="3767040"/>
            <a:ext cx="14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83440" y="3757680"/>
            <a:ext cx="14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3767040"/>
            <a:ext cx="3240" cy="1792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02720" y="3757680"/>
            <a:ext cx="612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59480" y="3757680"/>
            <a:ext cx="3240" cy="180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821280" y="375768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11560" y="4118040"/>
            <a:ext cx="14382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811560" y="447984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21280" y="484020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11560" y="5200560"/>
            <a:ext cx="1438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11560" y="5559480"/>
            <a:ext cx="1438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21640" y="3941640"/>
            <a:ext cx="36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6120" y="3995640"/>
            <a:ext cx="698400" cy="14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3664080"/>
            <a:ext cx="28872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98800" y="3687840"/>
            <a:ext cx="19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6320" y="4044960"/>
            <a:ext cx="23976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43440" y="40687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6320" y="4398840"/>
            <a:ext cx="23976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43440" y="442260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46960" y="4770360"/>
            <a:ext cx="241200" cy="1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5520" y="47941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6960" y="5102280"/>
            <a:ext cx="2412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35520" y="512604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02400" y="5425920"/>
            <a:ext cx="185760" cy="1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93120" y="54500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46960" y="3843360"/>
            <a:ext cx="24120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92320" y="3870360"/>
            <a:ext cx="1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6520" y="5586480"/>
            <a:ext cx="2397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231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358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92920" y="5586480"/>
            <a:ext cx="24156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595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7364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0480" y="5586480"/>
            <a:ext cx="24300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1032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300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67520" y="558648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37360" y="561492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51480" y="559908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4920" y="5586480"/>
            <a:ext cx="136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8640" y="5614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15440" y="5578560"/>
            <a:ext cx="24444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68000" y="5602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40480" y="5854680"/>
            <a:ext cx="193680" cy="19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8120" y="5880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59520" y="4587840"/>
            <a:ext cx="45072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48040" y="3817800"/>
            <a:ext cx="483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M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248520" y="4398840"/>
            <a:ext cx="63360" cy="189000"/>
            <a:chOff x="6248520" y="4398840"/>
            <a:chExt cx="63360" cy="189000"/>
          </a:xfrm>
        </p:grpSpPr>
        <p:sp>
          <p:nvSpPr>
            <p:cNvPr id="117" name=""/>
            <p:cNvSpPr/>
            <p:nvPr/>
          </p:nvSpPr>
          <p:spPr>
            <a:xfrm>
              <a:off x="6278400" y="4398840"/>
              <a:ext cx="1800" cy="18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48520" y="4398840"/>
              <a:ext cx="63360" cy="1429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40" y="90"/>
                  </a:moveTo>
                  <a:lnTo>
                    <a:pt x="19" y="0"/>
                  </a:lnTo>
                  <a:lnTo>
                    <a:pt x="0" y="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40640" y="5910120"/>
            <a:ext cx="192240" cy="63720"/>
            <a:chOff x="7640640" y="5910120"/>
            <a:chExt cx="192240" cy="63720"/>
          </a:xfrm>
        </p:grpSpPr>
        <p:sp>
          <p:nvSpPr>
            <p:cNvPr id="120" name=""/>
            <p:cNvSpPr/>
            <p:nvPr/>
          </p:nvSpPr>
          <p:spPr>
            <a:xfrm flipH="1">
              <a:off x="7640640" y="5940360"/>
              <a:ext cx="192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89960" y="5910120"/>
              <a:ext cx="142920" cy="6372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0" y="40"/>
                  </a:moveTo>
                  <a:lnTo>
                    <a:pt x="90" y="19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0280" y="4108320"/>
            <a:ext cx="3247560" cy="1444320"/>
            <a:chOff x="530280" y="4108320"/>
            <a:chExt cx="3247560" cy="1444320"/>
          </a:xfrm>
        </p:grpSpPr>
        <p:grpSp>
          <p:nvGrpSpPr>
            <p:cNvPr id="123" name=""/>
            <p:cNvGrpSpPr/>
            <p:nvPr/>
          </p:nvGrpSpPr>
          <p:grpSpPr>
            <a:xfrm>
              <a:off x="1752120" y="4599720"/>
              <a:ext cx="428400" cy="949680"/>
              <a:chOff x="1752120" y="4599720"/>
              <a:chExt cx="428400" cy="949680"/>
            </a:xfrm>
          </p:grpSpPr>
          <p:sp>
            <p:nvSpPr>
              <p:cNvPr id="124" name=""/>
              <p:cNvSpPr/>
              <p:nvPr/>
            </p:nvSpPr>
            <p:spPr>
              <a:xfrm>
                <a:off x="1752120" y="4861800"/>
                <a:ext cx="428400" cy="426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958760" y="4599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962360" y="5283720"/>
                <a:ext cx="1080" cy="26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58760" y="4938120"/>
                <a:ext cx="1080" cy="27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089360" y="4849200"/>
              <a:ext cx="428400" cy="42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296000" y="4317120"/>
              <a:ext cx="3240" cy="53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299240" y="5272560"/>
              <a:ext cx="0" cy="264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96000" y="492624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9880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2720" y="5552640"/>
              <a:ext cx="2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10120" y="5541120"/>
              <a:ext cx="21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4640" y="4116960"/>
              <a:ext cx="0" cy="66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93280" y="4108320"/>
              <a:ext cx="67104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91200" y="4276440"/>
              <a:ext cx="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320360"/>
              <a:ext cx="10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9240" y="4317120"/>
              <a:ext cx="10911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67400" y="4611240"/>
              <a:ext cx="423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97440" y="4435200"/>
              <a:ext cx="200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6920" y="4611240"/>
              <a:ext cx="1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399040" y="4435200"/>
              <a:ext cx="6685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2040" y="439956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65320" y="428508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65320" y="458532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13440" y="5314320"/>
              <a:ext cx="0" cy="232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6320" y="4593960"/>
              <a:ext cx="0" cy="51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28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9440" y="4876200"/>
              <a:ext cx="479520" cy="370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05600" y="4699800"/>
              <a:ext cx="372240" cy="334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2040" y="5247000"/>
              <a:ext cx="73440" cy="64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699160" y="4203720"/>
            <a:ext cx="44280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406760" y="5267160"/>
            <a:ext cx="422280" cy="649080"/>
            <a:chOff x="4406760" y="5267160"/>
            <a:chExt cx="422280" cy="649080"/>
          </a:xfrm>
        </p:grpSpPr>
        <p:sp>
          <p:nvSpPr>
            <p:cNvPr id="155" name=""/>
            <p:cNvSpPr/>
            <p:nvPr/>
          </p:nvSpPr>
          <p:spPr>
            <a:xfrm>
              <a:off x="4406760" y="5267160"/>
              <a:ext cx="422280" cy="403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613760" y="5665320"/>
              <a:ext cx="1080" cy="250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8000" y="5350320"/>
              <a:ext cx="10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06840" y="5929200"/>
            <a:ext cx="193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89280" y="3795840"/>
            <a:ext cx="1618560" cy="876960"/>
            <a:chOff x="4589280" y="3795840"/>
            <a:chExt cx="1618560" cy="876960"/>
          </a:xfrm>
        </p:grpSpPr>
        <p:sp>
          <p:nvSpPr>
            <p:cNvPr id="160" name=""/>
            <p:cNvSpPr/>
            <p:nvPr/>
          </p:nvSpPr>
          <p:spPr>
            <a:xfrm>
              <a:off x="5279040" y="4044960"/>
              <a:ext cx="1800" cy="62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89480" y="4036320"/>
              <a:ext cx="660240" cy="31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3080" y="4194000"/>
              <a:ext cx="216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3400" y="42350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240" y="4228560"/>
              <a:ext cx="484920" cy="6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240" y="4510440"/>
              <a:ext cx="4849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81040" y="43434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91600" y="4244400"/>
              <a:ext cx="2160" cy="27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89280" y="4395600"/>
              <a:ext cx="19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9520" y="45104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293800" y="4345200"/>
              <a:ext cx="660240" cy="3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6000" y="4478400"/>
              <a:ext cx="70560" cy="59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4360" y="4194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37280" y="4311000"/>
              <a:ext cx="70560" cy="59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6320" y="4361400"/>
              <a:ext cx="70560" cy="59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52080" y="3795840"/>
              <a:ext cx="245520" cy="34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835520" y="4630680"/>
            <a:ext cx="246240" cy="35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05360" y="5540400"/>
            <a:ext cx="368280" cy="33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606920" y="4387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51240" y="1393920"/>
            <a:ext cx="0" cy="546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916360" y="3198960"/>
                <a:ext cx="2394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R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861120" y="1725480"/>
            <a:ext cx="6912360" cy="788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półczynnik tłumienia składowej sumacyjnej CM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03440" y="2030400"/>
          <a:ext cx="808344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2030400"/>
                    <a:ext cx="808344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245280" y="4189320"/>
            <a:ext cx="192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pensacja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86680" y="18399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669000" y="2101680"/>
            <a:ext cx="0" cy="3146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05680" y="2108160"/>
            <a:ext cx="5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43000" y="5591160"/>
                <a:ext cx="56055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napięcia tranzystorów wejściowego układu różnicowego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prądy nasycenia złączy emiterowyc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675520" y="992160"/>
            <a:ext cx="36295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4:13:21Z</dcterms:created>
  <dc:creator>Agnieszka Kukawczynska</dc:creator>
  <dc:description/>
  <dc:language>en-US</dc:language>
  <cp:lastModifiedBy>MK</cp:lastModifiedBy>
  <dcterms:modified xsi:type="dcterms:W3CDTF">2004-03-08T13:10:29Z</dcterms:modified>
  <cp:revision>73</cp:revision>
  <dc:subject/>
  <dc:title>Wzmacniacze operacyjne</dc:title>
</cp:coreProperties>
</file>